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6A24-DDDE-44C2-BAFD-D560B13BE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EC1B-73A7-4F35-96E2-A213EB349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72FD-02EA-4C68-9D83-88751F579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D9F1-646D-42FB-9129-D62E4BCC1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D5A7-6C24-4A4A-BFB5-A5F3C8E19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3E7A-D33D-4336-9857-E7377944B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3389-0D1D-44B2-9117-AC63D782E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8E26-DBDE-4B08-B294-599353F2C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B6A1-9504-41EB-BE5D-4B08CDD8A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6690-C8A5-4DCC-879A-4ABB1C29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9B52-6220-41AF-8FAA-20C3A7FA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59A3-E192-421D-BB5E-FC1E8D0F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84341-C361-48EA-9783-ECBDC04662D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Dumbartonshire Ex Presidents 1"/>
          <p:cNvPicPr/>
          <p:nvPr/>
        </p:nvPicPr>
        <p:blipFill>
          <a:blip r:embed="rId1"/>
          <a:stretch/>
        </p:blipFill>
        <p:spPr>
          <a:xfrm>
            <a:off x="8167680" y="571680"/>
            <a:ext cx="1133640" cy="1325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Dumbartonshire Ex Presidents 25th"/>
          <p:cNvPicPr/>
          <p:nvPr/>
        </p:nvPicPr>
        <p:blipFill>
          <a:blip r:embed="rId2"/>
          <a:stretch/>
        </p:blipFill>
        <p:spPr>
          <a:xfrm>
            <a:off x="309600" y="2214720"/>
            <a:ext cx="1352520" cy="15588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0" y="18334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YOKER                                       YOKER                                             YOKER                               YOKER  125TH                              YOKER  150TH                        DUMBARTON  EX  PRESIDENTS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3873600" y="0"/>
            <a:ext cx="143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24 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Yoker 150th"/>
          <p:cNvPicPr/>
          <p:nvPr/>
        </p:nvPicPr>
        <p:blipFill>
          <a:blip r:embed="rId3"/>
          <a:stretch/>
        </p:blipFill>
        <p:spPr>
          <a:xfrm>
            <a:off x="6453360" y="642960"/>
            <a:ext cx="1023840" cy="1170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Yoker 4"/>
          <p:cNvPicPr/>
          <p:nvPr/>
        </p:nvPicPr>
        <p:blipFill>
          <a:blip r:embed="rId4"/>
          <a:stretch/>
        </p:blipFill>
        <p:spPr>
          <a:xfrm>
            <a:off x="3452760" y="785880"/>
            <a:ext cx="1060560" cy="1060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Yoker 125th"/>
          <p:cNvPicPr/>
          <p:nvPr/>
        </p:nvPicPr>
        <p:blipFill>
          <a:blip r:embed="rId5"/>
          <a:stretch/>
        </p:blipFill>
        <p:spPr>
          <a:xfrm>
            <a:off x="4881600" y="714240"/>
            <a:ext cx="1071360" cy="1163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Yoker 1.JPG"/>
          <p:cNvPicPr/>
          <p:nvPr/>
        </p:nvPicPr>
        <p:blipFill>
          <a:blip r:embed="rId6"/>
          <a:stretch/>
        </p:blipFill>
        <p:spPr>
          <a:xfrm>
            <a:off x="380880" y="857160"/>
            <a:ext cx="1043280" cy="997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Yoker 2.JPG"/>
          <p:cNvPicPr/>
          <p:nvPr/>
        </p:nvPicPr>
        <p:blipFill>
          <a:blip r:embed="rId7"/>
          <a:stretch/>
        </p:blipFill>
        <p:spPr>
          <a:xfrm>
            <a:off x="1881360" y="714240"/>
            <a:ext cx="1042920" cy="1121040"/>
          </a:xfrm>
          <a:prstGeom prst="rect">
            <a:avLst/>
          </a:prstGeom>
          <a:ln w="0">
            <a:noFill/>
          </a:ln>
        </p:spPr>
      </p:pic>
      <p:sp>
        <p:nvSpPr>
          <p:cNvPr id="50" name="TextBox 12"/>
          <p:cNvSpPr/>
          <p:nvPr/>
        </p:nvSpPr>
        <p:spPr>
          <a:xfrm>
            <a:off x="0" y="3786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X.  PRESIDENTS  25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14:57:48Z</dcterms:created>
  <dc:creator>JY</dc:creator>
  <dc:description/>
  <dc:language>en-US</dc:language>
  <cp:lastModifiedBy>John</cp:lastModifiedBy>
  <dcterms:modified xsi:type="dcterms:W3CDTF">2008-09-02T20:35:23Z</dcterms:modified>
  <cp:revision>12</cp:revision>
  <dc:subject/>
  <dc:title>Slide 1</dc:title>
</cp:coreProperties>
</file>